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1893-11AB-4DE4-B768-232B2ABE5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0059-2792-457E-BC0D-28CBA0361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9343-79F9-4F14-91FF-5B0595BB2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436A-9021-4332-8B9F-5DF5A10C8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3049-0A06-496E-85B0-55E7A32D4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5F10-EEB0-4FFC-B6AA-D8B78E954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15D0-7C60-4C65-B4E3-689F5F654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F57E-8F06-43F6-A65D-9F0F2C0A7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E5CC-9439-46FA-8F8F-4A76CF703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D35D-66C1-4D4F-B14F-502A8DC82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4DE3-D904-487A-9D99-25A661852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8B22-2CCB-4690-B4E9-C80A7D1DB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CE43A2-CF1C-4575-90A1-B09127791FA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A6D23E-6C27-4348-B2F1-D4A265A04E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positions, Conjunctions, Interje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merican L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posi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position: word that relates the noun or pronoun that appears with it to another word in the sent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prepositions show relationships between separate th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e chart on pg. 38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positional Phrases: contains a prep. and a noun or pronoun known as the object of the pre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is the famous actor in the movi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walked around the build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 am the one who called inside the hous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position or Adverb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ember that a prep. must appear with an object of the pre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oe Louis sidled around the r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oxer slowly looked aroun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fell down the stai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fell dow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jun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njunction: work used to connect other words or groups of wor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re are three kinds of conjunctions: coordinating, correlative, and subordinating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ordinating: these connect words or groups of wor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X: Melody and Susie went to see the movie.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se conjunctions are : and, but, for, nor, or, so, ye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relative: also join equal elements in sentences, but they always work in pai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: He was not only intelligent, but also handso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se conjunctions are: both…and, not only…. but also, either…or, neither….nor, whether….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bordinating: join two complete ideas by making one of the ideas subordinate (dependant) on the ot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: You may go to the game if you wash the dish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e chart on pg. 39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junctive Adverbs: used as conjunctions to connect complete ideas.  Often used as transitions, creating a bridge between different ideas by showing comparisons, contrasts, or resul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: The film was great; nevertheless, I prefer the boo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e chart on pg. 39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j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terjection: word that expresses feeling or emotion and functions independently of a sente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an express a variety of feelings such as joy, fear, anger, surprise, exhaustion, dismay, or sorrow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terjections are often set off from the rest of the sentence by a comma or exclamation poi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me interjections include: ah, aha, alas, dear, goodness, gracious, hey, hurrah, oh, ouch, psst, tsk, well, whew, wow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8T15:15:25Z</dcterms:created>
  <dc:creator>ndadmin</dc:creator>
  <dc:description/>
  <dc:language>en-US</dc:language>
  <cp:lastModifiedBy>ndadmin</cp:lastModifiedBy>
  <cp:lastPrinted>2008-11-18T20:49:14Z</cp:lastPrinted>
  <dcterms:modified xsi:type="dcterms:W3CDTF">2008-11-18T20:49:23Z</dcterms:modified>
  <cp:revision>2</cp:revision>
  <dc:subject/>
  <dc:title>Prepositions, Conjunctions, Interjections</dc:title>
</cp:coreProperties>
</file>